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2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D1563-A0B3-4E41-802E-A7860CB9C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75F27-5E98-4172-A96C-E79737297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82F6F-F59A-47A1-A339-9CB4526AF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3041D-045E-42A0-B9A3-EA5AE459B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8F2E0-2C20-484A-9E0F-469E79CDE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5EF20-E40A-4BB1-9F5A-510784A75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AC583-F84F-40DC-852A-869E91CC4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589B4-D62D-477B-BF53-D18D55712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110F3-CA76-4AA9-82BC-521BDCA92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3344C-B2BB-44FB-B30F-686A2CC48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E768F-CECA-41CC-A40F-1EAC88281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F0C44-C6C2-48A2-8570-784672AAB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60307-2CA0-4117-82C5-38B7734CD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4A1A4-A58A-4CC1-83C4-6E6BF6198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6D75A-6B62-443F-8A85-E5C79C334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008F4-8A5C-4920-9A9A-C77BFC123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6B9F8-51F7-4385-967F-F7D89A9C0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F97F2-A22D-4F21-ACDD-1E350592D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81EB4-DADF-4B81-9D2E-9239D60E0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E3C61-C98D-4381-B169-CD63BDE75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8B8EF-A725-4D41-9834-C9C91D5EF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6FF0D-2195-46FC-825D-21D346794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E5B03-B4E5-4558-B7F6-8548102F1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A92E7-8B58-44A9-B591-ED0BC00C7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61CD7-F956-48CC-BCBD-558A5D1F3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B53A8-C514-4846-BBA8-953C6EDBD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2FA64-B5C8-4C89-BD7E-BC5ADDE49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EAC70-8020-4E5E-BA4E-32DC04EA3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C702-EB2F-4C04-ABF5-CC614F6FD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90AA-8BFA-402A-826E-9AC0DB1A4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501A-9581-4BD2-A6DA-7B32496DE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780F-CD4F-4A80-80FD-41BB5B7787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007A-0308-4A37-A358-6B5D1D1A39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EF22-9DE7-4EDE-8D64-B4DE2B78B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EC58-F0D1-4342-8060-CC6E9EFA4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ED78-2B98-444D-A750-876416738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A40A-DEB7-4E33-83FC-3E1C16305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A1B1-4403-40A8-A8EB-4DBFCDEA9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338D-B366-41AF-B098-86D121F31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987A4-D902-4CAC-9A59-E80B966FD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867FD-F08F-4D1A-9853-89EACD7EEE3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685800" y="24382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CHANOTHERAP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716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Doc.dr Igor Siman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260280"/>
            <a:ext cx="68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ypobaric proced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195640" y="213372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cus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ascu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MANUAL THERAPEUTIC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685800" y="1905120"/>
            <a:ext cx="43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mani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438280" y="434340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2746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tension procedures– tr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69720" y="1844640"/>
            <a:ext cx="5715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sion is a passive kinesitherapeutic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can increase intervertebral space fo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1,5–2,5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den the intervertebral foramin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amina intervertebrali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block the posterior intervertebral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ophyseal) joints which are anatomically closely connected with the spinal root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d the ligamentous appa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6576" t="4539" r="6978" b="1037"/>
          <a:stretch/>
        </p:blipFill>
        <p:spPr>
          <a:xfrm>
            <a:off x="6516720" y="0"/>
            <a:ext cx="262728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rcRect l="0" t="0" r="7143" b="0"/>
          <a:stretch/>
        </p:blipFill>
        <p:spPr>
          <a:xfrm>
            <a:off x="6443640" y="3284640"/>
            <a:ext cx="270036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sion can be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22096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man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mittent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– 60 sec,  30–60 sec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ccessive–progress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cations for exten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generative changes of the spin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a phase of functional blockade of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egr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fasse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yndrom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drome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liolumb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aindications for exten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for surgical treat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berculous spondylit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mor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ctur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re osteoporos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euerman’s disease, inguinal and scrotal hernia, severe cardiac and pulmonary diseases, pregna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7010280" y="2438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0" y="228600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onotherapy involves the use of sound for therapeutic purpos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oustic energy implies a form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ve mo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presented by longitudinal mechanic vibration of the material particl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which in the form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mpress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arefa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reads through the gaseous, liquid and solid medi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propagation speed depends on the frequency and wavelength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44956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4"/>
          <p:cNvGrpSpPr/>
          <p:nvPr/>
        </p:nvGrpSpPr>
        <p:grpSpPr>
          <a:xfrm>
            <a:off x="990720" y="4724280"/>
            <a:ext cx="7083360" cy="1521000"/>
            <a:chOff x="990720" y="4724280"/>
            <a:chExt cx="7083360" cy="1521000"/>
          </a:xfrm>
        </p:grpSpPr>
        <p:sp>
          <p:nvSpPr>
            <p:cNvPr id="130" name="Text Box 5"/>
            <p:cNvSpPr/>
            <p:nvPr/>
          </p:nvSpPr>
          <p:spPr>
            <a:xfrm>
              <a:off x="2328840" y="5929200"/>
              <a:ext cx="469260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090880" y="4724280"/>
              <a:ext cx="51912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2422440" y="5219640"/>
              <a:ext cx="0" cy="5288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8"/>
            <p:cNvSpPr/>
            <p:nvPr/>
          </p:nvSpPr>
          <p:spPr>
            <a:xfrm>
              <a:off x="990720" y="4965840"/>
              <a:ext cx="142848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rection of oscillation of wave partic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 flipV="1">
              <a:off x="1949400" y="4826160"/>
              <a:ext cx="376200" cy="180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1901880" y="5327640"/>
              <a:ext cx="376200" cy="209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6881760" y="4900680"/>
              <a:ext cx="11923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rection of wave propa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Text Box 12"/>
          <p:cNvSpPr/>
          <p:nvPr/>
        </p:nvSpPr>
        <p:spPr>
          <a:xfrm>
            <a:off x="76320" y="3930480"/>
            <a:ext cx="906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ND IS A MECHANICAL LONGITUDINAL WAVE WITH A RANGE OF FREQUENCY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20 – 20.000 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2590920" y="1981080"/>
            <a:ext cx="3882960" cy="2206800"/>
            <a:chOff x="2590920" y="1981080"/>
            <a:chExt cx="3882960" cy="2206800"/>
          </a:xfrm>
        </p:grpSpPr>
        <p:grpSp>
          <p:nvGrpSpPr>
            <p:cNvPr id="139" name="Group 14"/>
            <p:cNvGrpSpPr/>
            <p:nvPr/>
          </p:nvGrpSpPr>
          <p:grpSpPr>
            <a:xfrm>
              <a:off x="3313080" y="2075040"/>
              <a:ext cx="2452680" cy="326880"/>
              <a:chOff x="3313080" y="2075040"/>
              <a:chExt cx="2452680" cy="326880"/>
            </a:xfrm>
          </p:grpSpPr>
          <p:grpSp>
            <p:nvGrpSpPr>
              <p:cNvPr id="140" name="Group 15"/>
              <p:cNvGrpSpPr/>
              <p:nvPr/>
            </p:nvGrpSpPr>
            <p:grpSpPr>
              <a:xfrm>
                <a:off x="4195440" y="2075040"/>
                <a:ext cx="733680" cy="321480"/>
                <a:chOff x="4195440" y="2075040"/>
                <a:chExt cx="733680" cy="321480"/>
              </a:xfrm>
            </p:grpSpPr>
            <p:grpSp>
              <p:nvGrpSpPr>
                <p:cNvPr id="141" name="Group 16"/>
                <p:cNvGrpSpPr/>
                <p:nvPr/>
              </p:nvGrpSpPr>
              <p:grpSpPr>
                <a:xfrm>
                  <a:off x="4379760" y="2075040"/>
                  <a:ext cx="363600" cy="159480"/>
                  <a:chOff x="4379760" y="2075040"/>
                  <a:chExt cx="363600" cy="159480"/>
                </a:xfrm>
              </p:grpSpPr>
              <p:sp>
                <p:nvSpPr>
                  <p:cNvPr id="142" name="Freeform 17"/>
                  <p:cNvSpPr/>
                  <p:nvPr/>
                </p:nvSpPr>
                <p:spPr>
                  <a:xfrm>
                    <a:off x="4379760" y="2075040"/>
                    <a:ext cx="181080" cy="15948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18"/>
                  <p:cNvSpPr/>
                  <p:nvPr/>
                </p:nvSpPr>
                <p:spPr>
                  <a:xfrm flipH="1">
                    <a:off x="4562640" y="2075040"/>
                    <a:ext cx="180720" cy="159480"/>
                  </a:xfrm>
                  <a:custGeom>
                    <a:avLst/>
                    <a:gdLst>
                      <a:gd name="textAreaLeft" fmla="*/ 360 w 180720"/>
                      <a:gd name="textAreaRight" fmla="*/ 181440 w 18072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" name="Freeform 19"/>
                <p:cNvSpPr/>
                <p:nvPr/>
              </p:nvSpPr>
              <p:spPr>
                <a:xfrm flipV="1">
                  <a:off x="4748040" y="2236680"/>
                  <a:ext cx="181080" cy="15948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-360 h 159480"/>
                    <a:gd name="textAreaBottom" fmla="*/ 159480 h 15948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5" name="Group 20"/>
                <p:cNvGrpSpPr/>
                <p:nvPr/>
              </p:nvGrpSpPr>
              <p:grpSpPr>
                <a:xfrm>
                  <a:off x="4379760" y="2075040"/>
                  <a:ext cx="363600" cy="159480"/>
                  <a:chOff x="4379760" y="2075040"/>
                  <a:chExt cx="363600" cy="159480"/>
                </a:xfrm>
              </p:grpSpPr>
              <p:sp>
                <p:nvSpPr>
                  <p:cNvPr id="146" name="Freeform 21"/>
                  <p:cNvSpPr/>
                  <p:nvPr/>
                </p:nvSpPr>
                <p:spPr>
                  <a:xfrm>
                    <a:off x="4379760" y="2075040"/>
                    <a:ext cx="181080" cy="15948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22"/>
                  <p:cNvSpPr/>
                  <p:nvPr/>
                </p:nvSpPr>
                <p:spPr>
                  <a:xfrm flipH="1">
                    <a:off x="4562640" y="2075040"/>
                    <a:ext cx="180720" cy="159480"/>
                  </a:xfrm>
                  <a:custGeom>
                    <a:avLst/>
                    <a:gdLst>
                      <a:gd name="textAreaLeft" fmla="*/ 360 w 180720"/>
                      <a:gd name="textAreaRight" fmla="*/ 181440 w 18072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8" name="Freeform 23"/>
                <p:cNvSpPr/>
                <p:nvPr/>
              </p:nvSpPr>
              <p:spPr>
                <a:xfrm flipV="1">
                  <a:off x="4748040" y="2236680"/>
                  <a:ext cx="181080" cy="15948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-360 h 159480"/>
                    <a:gd name="textAreaBottom" fmla="*/ 159480 h 15948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24"/>
                <p:cNvSpPr/>
                <p:nvPr/>
              </p:nvSpPr>
              <p:spPr>
                <a:xfrm flipH="1" flipV="1">
                  <a:off x="4195080" y="2236680"/>
                  <a:ext cx="181080" cy="159480"/>
                </a:xfrm>
                <a:custGeom>
                  <a:avLst/>
                  <a:gdLst>
                    <a:gd name="textAreaLeft" fmla="*/ -360 w 181080"/>
                    <a:gd name="textAreaRight" fmla="*/ 181080 w 181080"/>
                    <a:gd name="textAreaTop" fmla="*/ -360 h 159480"/>
                    <a:gd name="textAreaBottom" fmla="*/ 159480 h 15948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5"/>
              <p:cNvSpPr/>
              <p:nvPr/>
            </p:nvSpPr>
            <p:spPr>
              <a:xfrm>
                <a:off x="3313080" y="2401920"/>
                <a:ext cx="88092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26"/>
              <p:cNvSpPr/>
              <p:nvPr/>
            </p:nvSpPr>
            <p:spPr>
              <a:xfrm>
                <a:off x="4933800" y="2401920"/>
                <a:ext cx="83196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Text Box 27"/>
            <p:cNvSpPr/>
            <p:nvPr/>
          </p:nvSpPr>
          <p:spPr>
            <a:xfrm>
              <a:off x="2820960" y="212256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a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28"/>
            <p:cNvSpPr/>
            <p:nvPr/>
          </p:nvSpPr>
          <p:spPr>
            <a:xfrm>
              <a:off x="2820960" y="283068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b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" name="Group 29"/>
            <p:cNvGrpSpPr/>
            <p:nvPr/>
          </p:nvGrpSpPr>
          <p:grpSpPr>
            <a:xfrm>
              <a:off x="3490920" y="2971800"/>
              <a:ext cx="689040" cy="561960"/>
              <a:chOff x="3490920" y="2971800"/>
              <a:chExt cx="689040" cy="561960"/>
            </a:xfrm>
          </p:grpSpPr>
          <p:grpSp>
            <p:nvGrpSpPr>
              <p:cNvPr id="155" name="Group 30"/>
              <p:cNvGrpSpPr/>
              <p:nvPr/>
            </p:nvGrpSpPr>
            <p:grpSpPr>
              <a:xfrm>
                <a:off x="3490920" y="2971800"/>
                <a:ext cx="342360" cy="279360"/>
                <a:chOff x="3490920" y="2971800"/>
                <a:chExt cx="342360" cy="279360"/>
              </a:xfrm>
            </p:grpSpPr>
            <p:sp>
              <p:nvSpPr>
                <p:cNvPr id="156" name="Freeform 31"/>
                <p:cNvSpPr/>
                <p:nvPr/>
              </p:nvSpPr>
              <p:spPr>
                <a:xfrm>
                  <a:off x="34909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32"/>
                <p:cNvSpPr/>
                <p:nvPr/>
              </p:nvSpPr>
              <p:spPr>
                <a:xfrm flipH="1">
                  <a:off x="3663360" y="297180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33"/>
              <p:cNvGrpSpPr/>
              <p:nvPr/>
            </p:nvGrpSpPr>
            <p:grpSpPr>
              <a:xfrm>
                <a:off x="3836880" y="3254400"/>
                <a:ext cx="343080" cy="279360"/>
                <a:chOff x="3836880" y="3254400"/>
                <a:chExt cx="343080" cy="279360"/>
              </a:xfrm>
            </p:grpSpPr>
            <p:sp>
              <p:nvSpPr>
                <p:cNvPr id="159" name="Freeform 34"/>
                <p:cNvSpPr/>
                <p:nvPr/>
              </p:nvSpPr>
              <p:spPr>
                <a:xfrm flipV="1">
                  <a:off x="383688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35"/>
                <p:cNvSpPr/>
                <p:nvPr/>
              </p:nvSpPr>
              <p:spPr>
                <a:xfrm flipH="1" flipV="1">
                  <a:off x="401004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36"/>
              <p:cNvGrpSpPr/>
              <p:nvPr/>
            </p:nvGrpSpPr>
            <p:grpSpPr>
              <a:xfrm>
                <a:off x="3490920" y="2971800"/>
                <a:ext cx="342360" cy="279360"/>
                <a:chOff x="3490920" y="2971800"/>
                <a:chExt cx="342360" cy="279360"/>
              </a:xfrm>
            </p:grpSpPr>
            <p:sp>
              <p:nvSpPr>
                <p:cNvPr id="162" name="Freeform 37"/>
                <p:cNvSpPr/>
                <p:nvPr/>
              </p:nvSpPr>
              <p:spPr>
                <a:xfrm>
                  <a:off x="34909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38"/>
                <p:cNvSpPr/>
                <p:nvPr/>
              </p:nvSpPr>
              <p:spPr>
                <a:xfrm flipH="1">
                  <a:off x="3663360" y="297180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Group 39"/>
              <p:cNvGrpSpPr/>
              <p:nvPr/>
            </p:nvGrpSpPr>
            <p:grpSpPr>
              <a:xfrm>
                <a:off x="3836880" y="3254400"/>
                <a:ext cx="343080" cy="279360"/>
                <a:chOff x="3836880" y="3254400"/>
                <a:chExt cx="343080" cy="279360"/>
              </a:xfrm>
            </p:grpSpPr>
            <p:sp>
              <p:nvSpPr>
                <p:cNvPr id="165" name="Freeform 40"/>
                <p:cNvSpPr/>
                <p:nvPr/>
              </p:nvSpPr>
              <p:spPr>
                <a:xfrm flipV="1">
                  <a:off x="383688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41"/>
                <p:cNvSpPr/>
                <p:nvPr/>
              </p:nvSpPr>
              <p:spPr>
                <a:xfrm flipH="1" flipV="1">
                  <a:off x="401004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42"/>
            <p:cNvGrpSpPr/>
            <p:nvPr/>
          </p:nvGrpSpPr>
          <p:grpSpPr>
            <a:xfrm>
              <a:off x="4184640" y="2971800"/>
              <a:ext cx="686880" cy="561960"/>
              <a:chOff x="4184640" y="2971800"/>
              <a:chExt cx="686880" cy="561960"/>
            </a:xfrm>
          </p:grpSpPr>
          <p:grpSp>
            <p:nvGrpSpPr>
              <p:cNvPr id="168" name="Group 43"/>
              <p:cNvGrpSpPr/>
              <p:nvPr/>
            </p:nvGrpSpPr>
            <p:grpSpPr>
              <a:xfrm>
                <a:off x="4184640" y="2971800"/>
                <a:ext cx="342720" cy="279360"/>
                <a:chOff x="4184640" y="2971800"/>
                <a:chExt cx="342720" cy="279360"/>
              </a:xfrm>
            </p:grpSpPr>
            <p:sp>
              <p:nvSpPr>
                <p:cNvPr id="169" name="Freeform 44"/>
                <p:cNvSpPr/>
                <p:nvPr/>
              </p:nvSpPr>
              <p:spPr>
                <a:xfrm>
                  <a:off x="418464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5"/>
                <p:cNvSpPr/>
                <p:nvPr/>
              </p:nvSpPr>
              <p:spPr>
                <a:xfrm flipH="1">
                  <a:off x="4355280" y="2971800"/>
                  <a:ext cx="171720" cy="277920"/>
                </a:xfrm>
                <a:custGeom>
                  <a:avLst/>
                  <a:gdLst>
                    <a:gd name="textAreaLeft" fmla="*/ -360 w 171720"/>
                    <a:gd name="textAreaRight" fmla="*/ 171720 w 1717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46"/>
              <p:cNvGrpSpPr/>
              <p:nvPr/>
            </p:nvGrpSpPr>
            <p:grpSpPr>
              <a:xfrm>
                <a:off x="4529160" y="3254400"/>
                <a:ext cx="342360" cy="279360"/>
                <a:chOff x="4529160" y="3254400"/>
                <a:chExt cx="342360" cy="279360"/>
              </a:xfrm>
            </p:grpSpPr>
            <p:sp>
              <p:nvSpPr>
                <p:cNvPr id="172" name="Freeform 47"/>
                <p:cNvSpPr/>
                <p:nvPr/>
              </p:nvSpPr>
              <p:spPr>
                <a:xfrm flipV="1">
                  <a:off x="452916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48"/>
                <p:cNvSpPr/>
                <p:nvPr/>
              </p:nvSpPr>
              <p:spPr>
                <a:xfrm flipH="1" flipV="1">
                  <a:off x="4701600" y="325584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49"/>
              <p:cNvGrpSpPr/>
              <p:nvPr/>
            </p:nvGrpSpPr>
            <p:grpSpPr>
              <a:xfrm>
                <a:off x="4184640" y="2971800"/>
                <a:ext cx="342720" cy="279360"/>
                <a:chOff x="4184640" y="2971800"/>
                <a:chExt cx="342720" cy="279360"/>
              </a:xfrm>
            </p:grpSpPr>
            <p:sp>
              <p:nvSpPr>
                <p:cNvPr id="175" name="Freeform 50"/>
                <p:cNvSpPr/>
                <p:nvPr/>
              </p:nvSpPr>
              <p:spPr>
                <a:xfrm>
                  <a:off x="418464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51"/>
                <p:cNvSpPr/>
                <p:nvPr/>
              </p:nvSpPr>
              <p:spPr>
                <a:xfrm flipH="1">
                  <a:off x="4355280" y="2971800"/>
                  <a:ext cx="171720" cy="277920"/>
                </a:xfrm>
                <a:custGeom>
                  <a:avLst/>
                  <a:gdLst>
                    <a:gd name="textAreaLeft" fmla="*/ -360 w 171720"/>
                    <a:gd name="textAreaRight" fmla="*/ 171720 w 1717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52"/>
              <p:cNvGrpSpPr/>
              <p:nvPr/>
            </p:nvGrpSpPr>
            <p:grpSpPr>
              <a:xfrm>
                <a:off x="4529160" y="3254400"/>
                <a:ext cx="342360" cy="279360"/>
                <a:chOff x="4529160" y="3254400"/>
                <a:chExt cx="342360" cy="279360"/>
              </a:xfrm>
            </p:grpSpPr>
            <p:sp>
              <p:nvSpPr>
                <p:cNvPr id="178" name="Freeform 53"/>
                <p:cNvSpPr/>
                <p:nvPr/>
              </p:nvSpPr>
              <p:spPr>
                <a:xfrm flipV="1">
                  <a:off x="452916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4"/>
                <p:cNvSpPr/>
                <p:nvPr/>
              </p:nvSpPr>
              <p:spPr>
                <a:xfrm flipH="1" flipV="1">
                  <a:off x="4701600" y="325584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0" name="Group 55"/>
            <p:cNvGrpSpPr/>
            <p:nvPr/>
          </p:nvGrpSpPr>
          <p:grpSpPr>
            <a:xfrm>
              <a:off x="4875120" y="2971800"/>
              <a:ext cx="687600" cy="561960"/>
              <a:chOff x="4875120" y="2971800"/>
              <a:chExt cx="687600" cy="561960"/>
            </a:xfrm>
          </p:grpSpPr>
          <p:grpSp>
            <p:nvGrpSpPr>
              <p:cNvPr id="181" name="Group 56"/>
              <p:cNvGrpSpPr/>
              <p:nvPr/>
            </p:nvGrpSpPr>
            <p:grpSpPr>
              <a:xfrm>
                <a:off x="4875120" y="2971800"/>
                <a:ext cx="340920" cy="279360"/>
                <a:chOff x="4875120" y="2971800"/>
                <a:chExt cx="340920" cy="279360"/>
              </a:xfrm>
            </p:grpSpPr>
            <p:sp>
              <p:nvSpPr>
                <p:cNvPr id="182" name="Freeform 57"/>
                <p:cNvSpPr/>
                <p:nvPr/>
              </p:nvSpPr>
              <p:spPr>
                <a:xfrm>
                  <a:off x="48751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58"/>
                <p:cNvSpPr/>
                <p:nvPr/>
              </p:nvSpPr>
              <p:spPr>
                <a:xfrm flipH="1">
                  <a:off x="5047560" y="2971800"/>
                  <a:ext cx="168120" cy="277920"/>
                </a:xfrm>
                <a:custGeom>
                  <a:avLst/>
                  <a:gdLst>
                    <a:gd name="textAreaLeft" fmla="*/ -360 w 168120"/>
                    <a:gd name="textAreaRight" fmla="*/ 168120 w 1681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59"/>
              <p:cNvGrpSpPr/>
              <p:nvPr/>
            </p:nvGrpSpPr>
            <p:grpSpPr>
              <a:xfrm>
                <a:off x="5221440" y="3254400"/>
                <a:ext cx="341280" cy="279360"/>
                <a:chOff x="5221440" y="3254400"/>
                <a:chExt cx="341280" cy="279360"/>
              </a:xfrm>
            </p:grpSpPr>
            <p:sp>
              <p:nvSpPr>
                <p:cNvPr id="185" name="Freeform 60"/>
                <p:cNvSpPr/>
                <p:nvPr/>
              </p:nvSpPr>
              <p:spPr>
                <a:xfrm flipV="1">
                  <a:off x="5221440" y="3254400"/>
                  <a:ext cx="169560" cy="27792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61"/>
                <p:cNvSpPr/>
                <p:nvPr/>
              </p:nvSpPr>
              <p:spPr>
                <a:xfrm flipH="1" flipV="1">
                  <a:off x="539280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62"/>
              <p:cNvGrpSpPr/>
              <p:nvPr/>
            </p:nvGrpSpPr>
            <p:grpSpPr>
              <a:xfrm>
                <a:off x="4875120" y="2971800"/>
                <a:ext cx="340920" cy="279360"/>
                <a:chOff x="4875120" y="2971800"/>
                <a:chExt cx="340920" cy="279360"/>
              </a:xfrm>
            </p:grpSpPr>
            <p:sp>
              <p:nvSpPr>
                <p:cNvPr id="188" name="Freeform 63"/>
                <p:cNvSpPr/>
                <p:nvPr/>
              </p:nvSpPr>
              <p:spPr>
                <a:xfrm>
                  <a:off x="48751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64"/>
                <p:cNvSpPr/>
                <p:nvPr/>
              </p:nvSpPr>
              <p:spPr>
                <a:xfrm flipH="1">
                  <a:off x="5047560" y="2971800"/>
                  <a:ext cx="168120" cy="277920"/>
                </a:xfrm>
                <a:custGeom>
                  <a:avLst/>
                  <a:gdLst>
                    <a:gd name="textAreaLeft" fmla="*/ -360 w 168120"/>
                    <a:gd name="textAreaRight" fmla="*/ 168120 w 1681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65"/>
              <p:cNvGrpSpPr/>
              <p:nvPr/>
            </p:nvGrpSpPr>
            <p:grpSpPr>
              <a:xfrm>
                <a:off x="5221440" y="3254400"/>
                <a:ext cx="341280" cy="279360"/>
                <a:chOff x="5221440" y="3254400"/>
                <a:chExt cx="341280" cy="279360"/>
              </a:xfrm>
            </p:grpSpPr>
            <p:sp>
              <p:nvSpPr>
                <p:cNvPr id="191" name="Freeform 66"/>
                <p:cNvSpPr/>
                <p:nvPr/>
              </p:nvSpPr>
              <p:spPr>
                <a:xfrm flipV="1">
                  <a:off x="5221440" y="3254400"/>
                  <a:ext cx="169560" cy="27792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67"/>
                <p:cNvSpPr/>
                <p:nvPr/>
              </p:nvSpPr>
              <p:spPr>
                <a:xfrm flipH="1" flipV="1">
                  <a:off x="539280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3" name="Text Box 68"/>
            <p:cNvSpPr/>
            <p:nvPr/>
          </p:nvSpPr>
          <p:spPr>
            <a:xfrm>
              <a:off x="4027320" y="3349800"/>
              <a:ext cx="5781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t=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69"/>
            <p:cNvSpPr/>
            <p:nvPr/>
          </p:nvSpPr>
          <p:spPr>
            <a:xfrm>
              <a:off x="3313080" y="3255840"/>
              <a:ext cx="2452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70"/>
            <p:cNvSpPr/>
            <p:nvPr/>
          </p:nvSpPr>
          <p:spPr>
            <a:xfrm>
              <a:off x="3490920" y="2782800"/>
              <a:ext cx="0" cy="9892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71"/>
            <p:cNvSpPr/>
            <p:nvPr/>
          </p:nvSpPr>
          <p:spPr>
            <a:xfrm>
              <a:off x="3044880" y="3303720"/>
              <a:ext cx="577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t=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72"/>
            <p:cNvSpPr/>
            <p:nvPr/>
          </p:nvSpPr>
          <p:spPr>
            <a:xfrm flipV="1">
              <a:off x="3313080" y="3252600"/>
              <a:ext cx="174600" cy="14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73"/>
            <p:cNvSpPr/>
            <p:nvPr/>
          </p:nvSpPr>
          <p:spPr>
            <a:xfrm flipH="1" flipV="1">
              <a:off x="4202280" y="3252600"/>
              <a:ext cx="47520" cy="1918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74"/>
            <p:cNvSpPr/>
            <p:nvPr/>
          </p:nvSpPr>
          <p:spPr>
            <a:xfrm>
              <a:off x="3670200" y="2782800"/>
              <a:ext cx="0" cy="185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75"/>
            <p:cNvSpPr/>
            <p:nvPr/>
          </p:nvSpPr>
          <p:spPr>
            <a:xfrm>
              <a:off x="4340160" y="2782800"/>
              <a:ext cx="0" cy="185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76"/>
            <p:cNvSpPr/>
            <p:nvPr/>
          </p:nvSpPr>
          <p:spPr>
            <a:xfrm>
              <a:off x="3670200" y="2878200"/>
              <a:ext cx="220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77"/>
            <p:cNvSpPr/>
            <p:nvPr/>
          </p:nvSpPr>
          <p:spPr>
            <a:xfrm>
              <a:off x="4116240" y="2878200"/>
              <a:ext cx="220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78"/>
            <p:cNvSpPr/>
            <p:nvPr/>
          </p:nvSpPr>
          <p:spPr>
            <a:xfrm>
              <a:off x="3848040" y="2689200"/>
              <a:ext cx="442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79"/>
            <p:cNvSpPr/>
            <p:nvPr/>
          </p:nvSpPr>
          <p:spPr>
            <a:xfrm>
              <a:off x="5099040" y="2641680"/>
              <a:ext cx="8460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 =</a:t>
              </a:r>
              <a:r>
                <a:rPr b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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80"/>
            <p:cNvSpPr/>
            <p:nvPr/>
          </p:nvSpPr>
          <p:spPr>
            <a:xfrm>
              <a:off x="4741920" y="2830680"/>
              <a:ext cx="4428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81"/>
            <p:cNvSpPr/>
            <p:nvPr/>
          </p:nvSpPr>
          <p:spPr>
            <a:xfrm>
              <a:off x="5724360" y="306720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x, 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82"/>
            <p:cNvSpPr/>
            <p:nvPr/>
          </p:nvSpPr>
          <p:spPr>
            <a:xfrm>
              <a:off x="3222720" y="259560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83"/>
            <p:cNvSpPr/>
            <p:nvPr/>
          </p:nvSpPr>
          <p:spPr>
            <a:xfrm>
              <a:off x="2590920" y="3765600"/>
              <a:ext cx="38829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84"/>
            <p:cNvSpPr/>
            <p:nvPr/>
          </p:nvSpPr>
          <p:spPr>
            <a:xfrm>
              <a:off x="4921200" y="2170080"/>
              <a:ext cx="4428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85"/>
            <p:cNvSpPr/>
            <p:nvPr/>
          </p:nvSpPr>
          <p:spPr>
            <a:xfrm>
              <a:off x="5322960" y="1981080"/>
              <a:ext cx="442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Text Box 86"/>
          <p:cNvSpPr/>
          <p:nvPr/>
        </p:nvSpPr>
        <p:spPr>
          <a:xfrm>
            <a:off x="990720" y="1371600"/>
            <a:ext cx="71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MECHANICAL WAVES</a:t>
            </a:r>
            <a:r>
              <a:rPr b="1" lang="sr-Latn-CS" sz="1600" spc="-1" strike="noStrike">
                <a:solidFill>
                  <a:srgbClr val="000000"/>
                </a:solidFill>
                <a:latin typeface="Arial Black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BASIC CHARACTERIS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OUND AND ULTRA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19080" y="1771560"/>
            <a:ext cx="236232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tras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247840" y="1447920"/>
            <a:ext cx="2971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-20.000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.000 Hz – 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4876920" y="1447920"/>
            <a:ext cx="426708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nostic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- 40 W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apeu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1.000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ary effect of ultrasound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2438280" y="1752480"/>
            <a:ext cx="5943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chanical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al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-chemical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reflexive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685800" y="38088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ary effects of ultras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066680" y="2286000"/>
            <a:ext cx="7315200" cy="4267080"/>
          </a:xfrm>
          <a:prstGeom prst="rect">
            <a:avLst/>
          </a:prstGeom>
          <a:noFill/>
          <a:ln cap="sq"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ge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smolyt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i-inflamma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aticolyt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rovement of microcirculation, muscle mass and tissue re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ybrinoly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CHA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914400" y="1905120"/>
            <a:ext cx="7467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forms of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aratus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baric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al therapeutic techniques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pula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 procedure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otherap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ra and ultrasoun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de-effects of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556000" y="2349360"/>
            <a:ext cx="487656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vitation phenomen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er dose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ltrasound de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2627280" y="1600200"/>
            <a:ext cx="4033800" cy="4525920"/>
          </a:xfrm>
          <a:prstGeom prst="rect">
            <a:avLst/>
          </a:prstGeom>
          <a:noFill/>
          <a:ln cap="sq"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s of acquir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ostri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mecha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ics of the ultrasound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193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65300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aq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onophores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228600" y="1828800"/>
            <a:ext cx="8763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opical drug is usually in a form of ointment or cream and most often the following drugs are used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omucasae, hylase, hidrocortison, antirheumatic ointments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ment is performed using a labile method, and a medical cream or ointment s used as a contact med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ng of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ount of the received dose depends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Intensity(W/cm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urface on which it is applied (cm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Duration of application (m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Number of 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Indications for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6858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loids and sca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Dupuytre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ontra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throsi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RA, Mb Bechter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ndovaginiti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PAHS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pycondyliti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ra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ttraumatic conditions and their com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uralgia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usalgia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ccigodi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one crushing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Mb Meniere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pophyseal surgerie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685800" y="3808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Contraindications for sono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525600" y="1844640"/>
            <a:ext cx="82296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France YU"/>
                <a:ea typeface="Times New Roman"/>
              </a:rPr>
              <a:t>It is not used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in the area of the head 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along the hairline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medulae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spinalis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gravid uterus and in children’s age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growth zones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Presence of metal in the field </a:t>
            </a:r>
            <a:r>
              <a:rPr b="1" lang="en-US" sz="2800" spc="-1" strike="noStrike">
                <a:solidFill>
                  <a:srgbClr val="c0504d"/>
                </a:solidFill>
                <a:latin typeface="France YU"/>
                <a:ea typeface="Times New Roman"/>
              </a:rPr>
              <a:t>is not a contra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aindications for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403280" y="1557360"/>
            <a:ext cx="7067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brile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mbophleb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eeding and bleeding tend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teopo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ute infectious dis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berculos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ronchiec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i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mpensation of vital organs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MANUAL MASSAG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205740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apeutic mass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rts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gienic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877000" y="2919240"/>
            <a:ext cx="1581120" cy="188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886200" y="19810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iques of classic manual mass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2209680"/>
            <a:ext cx="8229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LEU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TRI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POTMENT or PERC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ffects of various forms of massage according to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R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457200" y="1600200"/>
            <a:ext cx="8226360" cy="4989600"/>
            <a:chOff x="457200" y="1600200"/>
            <a:chExt cx="8226360" cy="4989600"/>
          </a:xfrm>
        </p:grpSpPr>
        <p:sp>
          <p:nvSpPr>
            <p:cNvPr id="63" name="Rectangle 3"/>
            <p:cNvSpPr/>
            <p:nvPr/>
          </p:nvSpPr>
          <p:spPr>
            <a:xfrm>
              <a:off x="457200" y="1600200"/>
              <a:ext cx="190116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ff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4"/>
            <p:cNvSpPr/>
            <p:nvPr/>
          </p:nvSpPr>
          <p:spPr>
            <a:xfrm>
              <a:off x="2361600" y="1600200"/>
              <a:ext cx="144900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ssage strok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5"/>
            <p:cNvSpPr/>
            <p:nvPr/>
          </p:nvSpPr>
          <p:spPr>
            <a:xfrm>
              <a:off x="3813840" y="1600200"/>
              <a:ext cx="189612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ssues that are affec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5712120" y="1600200"/>
              <a:ext cx="296784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lu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457200" y="2404800"/>
              <a:ext cx="1901160" cy="15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da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2361600" y="2404800"/>
              <a:ext cx="144900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ffleu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9"/>
            <p:cNvSpPr/>
            <p:nvPr/>
          </p:nvSpPr>
          <p:spPr>
            <a:xfrm>
              <a:off x="3813840" y="2404800"/>
              <a:ext cx="189612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овршина кож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0"/>
            <p:cNvSpPr/>
            <p:nvPr/>
          </p:nvSpPr>
          <p:spPr>
            <a:xfrm>
              <a:off x="5712120" y="2404800"/>
              <a:ext cx="29678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ough the nerve ending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1"/>
            <p:cNvSpPr/>
            <p:nvPr/>
          </p:nvSpPr>
          <p:spPr>
            <a:xfrm>
              <a:off x="2361600" y="3044160"/>
              <a:ext cx="144900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perficial fri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2"/>
            <p:cNvSpPr/>
            <p:nvPr/>
          </p:nvSpPr>
          <p:spPr>
            <a:xfrm>
              <a:off x="3813840" y="3044160"/>
              <a:ext cx="189612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kin and subcutaneous tissu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3"/>
            <p:cNvSpPr/>
            <p:nvPr/>
          </p:nvSpPr>
          <p:spPr>
            <a:xfrm>
              <a:off x="5712120" y="3044160"/>
              <a:ext cx="296784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n all elements involved by these lay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4"/>
            <p:cNvSpPr/>
            <p:nvPr/>
          </p:nvSpPr>
          <p:spPr>
            <a:xfrm>
              <a:off x="457200" y="3956760"/>
              <a:ext cx="1901160" cy="26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imulat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2361600" y="3956760"/>
              <a:ext cx="144900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ep fri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3813840" y="3956760"/>
              <a:ext cx="189612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 layers of the soft tis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7"/>
            <p:cNvSpPr/>
            <p:nvPr/>
          </p:nvSpPr>
          <p:spPr>
            <a:xfrm>
              <a:off x="5712120" y="3956760"/>
              <a:ext cx="296784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n all elements within th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8"/>
            <p:cNvSpPr/>
            <p:nvPr/>
          </p:nvSpPr>
          <p:spPr>
            <a:xfrm>
              <a:off x="2361600" y="4761360"/>
              <a:ext cx="144900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tris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9"/>
            <p:cNvSpPr/>
            <p:nvPr/>
          </p:nvSpPr>
          <p:spPr>
            <a:xfrm>
              <a:off x="3813840" y="4761360"/>
              <a:ext cx="189612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ft tis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20"/>
            <p:cNvSpPr/>
            <p:nvPr/>
          </p:nvSpPr>
          <p:spPr>
            <a:xfrm>
              <a:off x="5712120" y="4761360"/>
              <a:ext cx="296784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rong influence on musc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1"/>
            <p:cNvSpPr/>
            <p:nvPr/>
          </p:nvSpPr>
          <p:spPr>
            <a:xfrm>
              <a:off x="2361600" y="5675400"/>
              <a:ext cx="144900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ot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2"/>
            <p:cNvSpPr/>
            <p:nvPr/>
          </p:nvSpPr>
          <p:spPr>
            <a:xfrm>
              <a:off x="3813840" y="5675400"/>
              <a:ext cx="189612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ft ti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23"/>
            <p:cNvSpPr/>
            <p:nvPr/>
          </p:nvSpPr>
          <p:spPr>
            <a:xfrm>
              <a:off x="5712120" y="5675400"/>
              <a:ext cx="296784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imulates muscles which react with mild contrac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24"/>
            <p:cNvSpPr/>
            <p:nvPr/>
          </p:nvSpPr>
          <p:spPr>
            <a:xfrm>
              <a:off x="236160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5"/>
            <p:cNvSpPr/>
            <p:nvPr/>
          </p:nvSpPr>
          <p:spPr>
            <a:xfrm>
              <a:off x="381384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571212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27"/>
            <p:cNvSpPr/>
            <p:nvPr/>
          </p:nvSpPr>
          <p:spPr>
            <a:xfrm>
              <a:off x="457200" y="240480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8"/>
            <p:cNvSpPr/>
            <p:nvPr/>
          </p:nvSpPr>
          <p:spPr>
            <a:xfrm>
              <a:off x="2361600" y="3044160"/>
              <a:ext cx="631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9"/>
            <p:cNvSpPr/>
            <p:nvPr/>
          </p:nvSpPr>
          <p:spPr>
            <a:xfrm>
              <a:off x="457200" y="395676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30"/>
            <p:cNvSpPr/>
            <p:nvPr/>
          </p:nvSpPr>
          <p:spPr>
            <a:xfrm>
              <a:off x="2361600" y="4761360"/>
              <a:ext cx="631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31"/>
            <p:cNvSpPr/>
            <p:nvPr/>
          </p:nvSpPr>
          <p:spPr>
            <a:xfrm>
              <a:off x="2361600" y="5675400"/>
              <a:ext cx="631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32"/>
            <p:cNvSpPr/>
            <p:nvPr/>
          </p:nvSpPr>
          <p:spPr>
            <a:xfrm>
              <a:off x="45720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>
              <a:off x="868356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34"/>
            <p:cNvSpPr/>
            <p:nvPr/>
          </p:nvSpPr>
          <p:spPr>
            <a:xfrm>
              <a:off x="457200" y="160020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35"/>
            <p:cNvSpPr/>
            <p:nvPr/>
          </p:nvSpPr>
          <p:spPr>
            <a:xfrm>
              <a:off x="457200" y="658980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d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 gener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Reconvalesc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eurocirculatory dyston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 loc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osttraumatic conditio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Rheumatic diseas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ocal swelling and edem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ervical and lumbar syndrom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laccid and spastic paresis and paralysi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troduction to kinesitherap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raindications for a ma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brile conditions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cute infective diseases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ute inflammatory processes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pecially purul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leeding, bleeding tendenc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ymphanigitis, thrombophlebitis, severe aneurysmal dilation of a ve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linant tum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kin disea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phrolythiasis, choleolythia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PPARATUS MASSAGE</a:t>
            </a:r>
            <a:br>
              <a:rPr sz="26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pparatus- VIBRATION MASSAGE APPARATU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rcRect l="4208" t="3473" r="6312" b="44173"/>
          <a:stretch/>
        </p:blipFill>
        <p:spPr>
          <a:xfrm>
            <a:off x="457200" y="1371600"/>
            <a:ext cx="3817800" cy="3809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rcRect l="0" t="59975" r="6179" b="0"/>
          <a:stretch/>
        </p:blipFill>
        <p:spPr>
          <a:xfrm>
            <a:off x="4343400" y="1371600"/>
            <a:ext cx="3673440" cy="3841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228600" y="51814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of a pain threshold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analgesic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active hyperem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 of cellular metabolism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ion of the toxic degradable products of a pathological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MA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2408400"/>
            <a:ext cx="48006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cotish showe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harcot showe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arl wellness batht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derwater ma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irpool b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3962520" y="2130480"/>
          <a:ext cx="4697280" cy="32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130480"/>
                    <a:ext cx="469728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38:32Z</dcterms:created>
  <dc:creator>Veljkovic Miodrag</dc:creator>
  <dc:description/>
  <dc:language>en-US</dc:language>
  <cp:lastModifiedBy>Nada Miklja</cp:lastModifiedBy>
  <dcterms:modified xsi:type="dcterms:W3CDTF">2023-09-26T08:05:36Z</dcterms:modified>
  <cp:revision>78</cp:revision>
  <dc:subject/>
  <dc:title>MEHANOTERAPIJA</dc:title>
</cp:coreProperties>
</file>